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2D4-199E-43DD-9FC4-93545118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FBB-66CA-4D8B-9185-5A63C40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937-956B-4975-92DA-D824DCAE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28F-0270-425F-B23B-27BD0BEC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51E-A9AB-4F57-A914-AB883AB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2FF-BB6A-4FB1-A4B2-CB0183C0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E8E-7C1C-489A-ABF1-1A7B840E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E75-A67A-4CC1-B784-6DB9A17B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DBB-F0FD-47DB-BFF8-E57FAC2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1C0-F96E-4BB8-862A-8C349A5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75C-6F48-45C2-A0F3-6A341F23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FDE-C322-4BAB-8D9F-3B532F9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EB7-EBC0-4A96-A781-5A70A725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487692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505320"/>
            <a:ext cx="4876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3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523880"/>
            <a:ext cx="228600" cy="304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066680"/>
            <a:ext cx="2286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4724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724280"/>
            <a:ext cx="2286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4267080"/>
            <a:ext cx="22860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816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1612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204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572000"/>
            <a:ext cx="228600" cy="152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876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449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76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6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600200" y="5867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057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value now of future cash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6094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1: Electrical U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657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2: Government Lo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280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276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2272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268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22640" y="5181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00200" y="2666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257800"/>
            <a:ext cx="1600200" cy="45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value now of future cash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900080" y="2486160"/>
            <a:ext cx="5343840" cy="1893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720" y="3121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8372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6640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5088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72200" y="3378240"/>
            <a:ext cx="278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culation of future value of annuity at yea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8372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5088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6640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5088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50880" y="3906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50880" y="40622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3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919840" y="4064040"/>
            <a:ext cx="473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265480" y="2654280"/>
            <a:ext cx="4308480" cy="317520"/>
            <a:chOff x="2265480" y="2654280"/>
            <a:chExt cx="4308480" cy="317520"/>
          </a:xfrm>
        </p:grpSpPr>
        <p:sp>
          <p:nvSpPr>
            <p:cNvPr id="519" name=""/>
            <p:cNvSpPr/>
            <p:nvPr/>
          </p:nvSpPr>
          <p:spPr>
            <a:xfrm>
              <a:off x="23540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4608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478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2496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5616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5792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6760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6548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9544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854520" y="3676680"/>
            <a:ext cx="206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62400" y="3832200"/>
            <a:ext cx="75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900080" y="2490840"/>
            <a:ext cx="5343840" cy="1884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40720" y="312588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483720" y="3125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66400" y="3125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50880" y="3125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05440" y="3440160"/>
            <a:ext cx="256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ulation of future value of annuity at yea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83720" y="359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50880" y="359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66400" y="3754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0880" y="3754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50880" y="39099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50880" y="40672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19840" y="4049640"/>
            <a:ext cx="473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265480" y="2654280"/>
            <a:ext cx="4308480" cy="317520"/>
            <a:chOff x="2265480" y="2654280"/>
            <a:chExt cx="4308480" cy="317520"/>
          </a:xfrm>
        </p:grpSpPr>
        <p:sp>
          <p:nvSpPr>
            <p:cNvPr id="544" name=""/>
            <p:cNvSpPr/>
            <p:nvPr/>
          </p:nvSpPr>
          <p:spPr>
            <a:xfrm>
              <a:off x="23540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4608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4784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496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5616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5792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67600" y="287640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6548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9544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43440" y="3666960"/>
            <a:ext cx="1976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33960" y="3819600"/>
            <a:ext cx="785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0" y="3432240"/>
            <a:ext cx="4576680" cy="3425760"/>
            <a:chOff x="0" y="3432240"/>
            <a:chExt cx="4576680" cy="3425760"/>
          </a:xfrm>
        </p:grpSpPr>
        <p:sp>
          <p:nvSpPr>
            <p:cNvPr id="556" name=""/>
            <p:cNvSpPr/>
            <p:nvPr/>
          </p:nvSpPr>
          <p:spPr>
            <a:xfrm>
              <a:off x="0" y="3432240"/>
              <a:ext cx="457668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640" y="3768840"/>
              <a:ext cx="3508560" cy="23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400" y="61023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5400" y="57070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5400" y="532440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5400" y="492912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5400" y="45464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5400" y="41529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5400" y="37688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55640" y="6102000"/>
              <a:ext cx="3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1109520" y="6102000"/>
              <a:ext cx="3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45404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80828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16216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1604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85912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21300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6724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09960" y="6102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64200" y="6102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564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09520" y="4164120"/>
              <a:ext cx="34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54040" y="4164120"/>
              <a:ext cx="35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828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6216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16040" y="4164120"/>
              <a:ext cx="34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9120" y="4164120"/>
              <a:ext cx="35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13000" y="4164120"/>
              <a:ext cx="35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67240" y="4164120"/>
              <a:ext cx="342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09960" y="4164120"/>
              <a:ext cx="35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5640" y="4164120"/>
              <a:ext cx="3538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09520" y="4210200"/>
              <a:ext cx="34452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54040" y="4268880"/>
              <a:ext cx="3542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8280" y="4325760"/>
              <a:ext cx="35388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62160" y="4373640"/>
              <a:ext cx="353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6040" y="4430880"/>
              <a:ext cx="34308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59120" y="4478400"/>
              <a:ext cx="35388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13000" y="4522680"/>
              <a:ext cx="35424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67240" y="4570560"/>
              <a:ext cx="34272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09960" y="4616280"/>
              <a:ext cx="354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5640" y="4164120"/>
              <a:ext cx="3538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09520" y="4268880"/>
              <a:ext cx="3445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54040" y="4373640"/>
              <a:ext cx="3542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8280" y="4467240"/>
              <a:ext cx="35388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62160" y="4559400"/>
              <a:ext cx="35388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16040" y="4651200"/>
              <a:ext cx="3430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59120" y="4732200"/>
              <a:ext cx="3538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13000" y="4815000"/>
              <a:ext cx="35424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67240" y="4883040"/>
              <a:ext cx="3427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09960" y="4952880"/>
              <a:ext cx="35424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5640" y="4164120"/>
              <a:ext cx="353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09520" y="4314960"/>
              <a:ext cx="3445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54040" y="4467240"/>
              <a:ext cx="354240" cy="138240"/>
            </a:xfrm>
            <a:custGeom>
              <a:avLst/>
              <a:gdLst/>
              <a:ahLst/>
              <a:rect l="l" t="t" r="r" b="b"/>
              <a:pathLst>
                <a:path w="204" h="72">
                  <a:moveTo>
                    <a:pt x="0" y="0"/>
                  </a:moveTo>
                  <a:lnTo>
                    <a:pt x="102" y="36"/>
                  </a:lnTo>
                  <a:lnTo>
                    <a:pt x="204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08280" y="4605480"/>
              <a:ext cx="353880" cy="115920"/>
            </a:xfrm>
            <a:custGeom>
              <a:avLst/>
              <a:gdLst/>
              <a:ahLst/>
              <a:rect l="l" t="t" r="r" b="b"/>
              <a:pathLst>
                <a:path w="204" h="60">
                  <a:moveTo>
                    <a:pt x="0" y="0"/>
                  </a:moveTo>
                  <a:lnTo>
                    <a:pt x="102" y="30"/>
                  </a:lnTo>
                  <a:lnTo>
                    <a:pt x="204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62160" y="4721400"/>
              <a:ext cx="353880" cy="11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6040" y="4836960"/>
              <a:ext cx="3430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59120" y="4941720"/>
              <a:ext cx="35388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13000" y="5035680"/>
              <a:ext cx="35424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67240" y="5127480"/>
              <a:ext cx="34272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09960" y="5208480"/>
              <a:ext cx="3542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5640" y="4164120"/>
              <a:ext cx="353880" cy="244440"/>
            </a:xfrm>
            <a:custGeom>
              <a:avLst/>
              <a:gdLst/>
              <a:ahLst/>
              <a:rect l="l" t="t" r="r" b="b"/>
              <a:pathLst>
                <a:path w="204" h="126">
                  <a:moveTo>
                    <a:pt x="0" y="0"/>
                  </a:moveTo>
                  <a:lnTo>
                    <a:pt x="102" y="66"/>
                  </a:lnTo>
                  <a:lnTo>
                    <a:pt x="204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09520" y="4408560"/>
              <a:ext cx="34452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54040" y="4629240"/>
              <a:ext cx="354240" cy="19692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0" y="0"/>
                  </a:moveTo>
                  <a:lnTo>
                    <a:pt x="102" y="54"/>
                  </a:lnTo>
                  <a:lnTo>
                    <a:pt x="204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08280" y="4826160"/>
              <a:ext cx="353880" cy="16164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02" y="42"/>
                  </a:lnTo>
                  <a:lnTo>
                    <a:pt x="204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62160" y="4987800"/>
              <a:ext cx="3538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6040" y="5138640"/>
              <a:ext cx="343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59120" y="5265720"/>
              <a:ext cx="35388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13000" y="5370480"/>
              <a:ext cx="3542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67240" y="5462640"/>
              <a:ext cx="3427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40" y="4164120"/>
              <a:ext cx="353880" cy="382320"/>
            </a:xfrm>
            <a:custGeom>
              <a:avLst/>
              <a:gdLst/>
              <a:ahLst/>
              <a:rect l="l" t="t" r="r" b="b"/>
              <a:pathLst>
                <a:path w="204" h="198">
                  <a:moveTo>
                    <a:pt x="0" y="0"/>
                  </a:moveTo>
                  <a:lnTo>
                    <a:pt x="102" y="102"/>
                  </a:lnTo>
                  <a:lnTo>
                    <a:pt x="204" y="1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09520" y="4546440"/>
              <a:ext cx="344520" cy="312840"/>
            </a:xfrm>
            <a:custGeom>
              <a:avLst/>
              <a:gdLst/>
              <a:ahLst/>
              <a:rect l="l" t="t" r="r" b="b"/>
              <a:pathLst>
                <a:path w="198" h="162">
                  <a:moveTo>
                    <a:pt x="0" y="0"/>
                  </a:moveTo>
                  <a:lnTo>
                    <a:pt x="96" y="84"/>
                  </a:lnTo>
                  <a:lnTo>
                    <a:pt x="198" y="1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54040" y="4859280"/>
              <a:ext cx="354240" cy="244440"/>
            </a:xfrm>
            <a:custGeom>
              <a:avLst/>
              <a:gdLst/>
              <a:ahLst/>
              <a:rect l="l" t="t" r="r" b="b"/>
              <a:pathLst>
                <a:path w="204" h="126">
                  <a:moveTo>
                    <a:pt x="0" y="0"/>
                  </a:moveTo>
                  <a:lnTo>
                    <a:pt x="102" y="66"/>
                  </a:lnTo>
                  <a:lnTo>
                    <a:pt x="204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08280" y="5103720"/>
              <a:ext cx="353880" cy="196920"/>
            </a:xfrm>
            <a:custGeom>
              <a:avLst/>
              <a:gdLst/>
              <a:ahLst/>
              <a:rect l="l" t="t" r="r" b="b"/>
              <a:pathLst>
                <a:path w="204" h="102">
                  <a:moveTo>
                    <a:pt x="0" y="0"/>
                  </a:moveTo>
                  <a:lnTo>
                    <a:pt x="102" y="54"/>
                  </a:lnTo>
                  <a:lnTo>
                    <a:pt x="204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62160" y="5300640"/>
              <a:ext cx="353880" cy="162000"/>
            </a:xfrm>
            <a:custGeom>
              <a:avLst/>
              <a:gdLst/>
              <a:ahLst/>
              <a:rect l="l" t="t" r="r" b="b"/>
              <a:pathLst>
                <a:path w="204" h="84">
                  <a:moveTo>
                    <a:pt x="0" y="0"/>
                  </a:moveTo>
                  <a:lnTo>
                    <a:pt x="102" y="42"/>
                  </a:lnTo>
                  <a:lnTo>
                    <a:pt x="204" y="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16040" y="5462640"/>
              <a:ext cx="343080" cy="129960"/>
            </a:xfrm>
            <a:custGeom>
              <a:avLst/>
              <a:gdLst/>
              <a:ahLst/>
              <a:rect l="l" t="t" r="r" b="b"/>
              <a:pathLst>
                <a:path w="198" h="66">
                  <a:moveTo>
                    <a:pt x="0" y="0"/>
                  </a:moveTo>
                  <a:lnTo>
                    <a:pt x="96" y="36"/>
                  </a:lnTo>
                  <a:lnTo>
                    <a:pt x="198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59120" y="5592600"/>
              <a:ext cx="35388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13000" y="5695920"/>
              <a:ext cx="3542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67240" y="5776920"/>
              <a:ext cx="342720" cy="69840"/>
            </a:xfrm>
            <a:custGeom>
              <a:avLst/>
              <a:gdLst/>
              <a:ahLst/>
              <a:rect l="l" t="t" r="r" b="b"/>
              <a:pathLst>
                <a:path w="198" h="36">
                  <a:moveTo>
                    <a:pt x="0" y="0"/>
                  </a:moveTo>
                  <a:lnTo>
                    <a:pt x="96" y="18"/>
                  </a:lnTo>
                  <a:lnTo>
                    <a:pt x="198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09960" y="5846760"/>
              <a:ext cx="354240" cy="46080"/>
            </a:xfrm>
            <a:custGeom>
              <a:avLst/>
              <a:gdLst/>
              <a:ahLst/>
              <a:rect l="l" t="t" r="r" b="b"/>
              <a:pathLst>
                <a:path w="204" h="24">
                  <a:moveTo>
                    <a:pt x="0" y="0"/>
                  </a:moveTo>
                  <a:lnTo>
                    <a:pt x="102" y="12"/>
                  </a:lnTo>
                  <a:lnTo>
                    <a:pt x="204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0920" y="601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6960" y="5626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960" y="5241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960" y="4849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6960" y="4467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0920" y="407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6960" y="3689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504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7928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2200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7588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3012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8400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2708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096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484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79360" y="620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01920" y="6205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28800" y="6450120"/>
              <a:ext cx="137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 from the pres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-880920" y="4904640"/>
              <a:ext cx="233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ent value of $1 at various times 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121320" y="4853160"/>
              <a:ext cx="58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e fu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848040" y="582948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68560" y="5843520"/>
              <a:ext cx="22392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09960" y="5545080"/>
              <a:ext cx="3542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48040" y="5495760"/>
              <a:ext cx="26676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68560" y="5530680"/>
              <a:ext cx="223920" cy="1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48040" y="515304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00600" y="5162400"/>
              <a:ext cx="16164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48040" y="487692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00600" y="4903920"/>
              <a:ext cx="16164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48040" y="454356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2960" y="4584600"/>
              <a:ext cx="1969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48040" y="4095720"/>
              <a:ext cx="266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00600" y="4114800"/>
              <a:ext cx="1616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581120" y="1014480"/>
            <a:ext cx="5194440" cy="18939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78040" y="1644480"/>
            <a:ext cx="66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h F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02720" y="1649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10960" y="16495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88960" y="165888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76960" y="195912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04280" y="2120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4280" y="2278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04280" y="24354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34440" y="25909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2021040" y="2590920"/>
            <a:ext cx="49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108160" y="1190520"/>
            <a:ext cx="4308480" cy="317520"/>
            <a:chOff x="2108160" y="1190520"/>
            <a:chExt cx="4308480" cy="317520"/>
          </a:xfrm>
        </p:grpSpPr>
        <p:sp>
          <p:nvSpPr>
            <p:cNvPr id="681" name=""/>
            <p:cNvSpPr/>
            <p:nvPr/>
          </p:nvSpPr>
          <p:spPr>
            <a:xfrm>
              <a:off x="219672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8876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9052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92280" y="1190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98840" y="14126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00600" y="14126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10280" y="14126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08160" y="145404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38120" y="140184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498840" y="185112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2688840" y="220032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22920" y="1851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812680" y="2355840"/>
            <a:ext cx="200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60640" y="251136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24680" y="1851120"/>
            <a:ext cx="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1784520" y="3211560"/>
            <a:ext cx="6478560" cy="1911240"/>
            <a:chOff x="1784520" y="3211560"/>
            <a:chExt cx="6478560" cy="1911240"/>
          </a:xfrm>
        </p:grpSpPr>
        <p:sp>
          <p:nvSpPr>
            <p:cNvPr id="697" name=""/>
            <p:cNvSpPr/>
            <p:nvPr/>
          </p:nvSpPr>
          <p:spPr>
            <a:xfrm>
              <a:off x="1784520" y="3211560"/>
              <a:ext cx="6478560" cy="1911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6872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048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7224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6428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56680" y="337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67040" y="38419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722120" y="3846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15960" y="3846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08000" y="3846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965960" y="415296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sent 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23440" y="4335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23440" y="449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7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23440" y="4649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53600" y="4807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2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2247840" y="3600360"/>
              <a:ext cx="5729400" cy="98640"/>
              <a:chOff x="2247840" y="3600360"/>
              <a:chExt cx="5729400" cy="98640"/>
            </a:xfrm>
          </p:grpSpPr>
          <p:sp>
            <p:nvSpPr>
              <p:cNvPr id="713" name=""/>
              <p:cNvSpPr/>
              <p:nvPr/>
            </p:nvSpPr>
            <p:spPr>
              <a:xfrm>
                <a:off x="2247840" y="3648240"/>
                <a:ext cx="5630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875720" y="3600360"/>
                <a:ext cx="101520" cy="9864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0" y="125"/>
                    </a:moveTo>
                    <a:lnTo>
                      <a:pt x="126" y="63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2247840" y="359244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49600" y="3602160"/>
              <a:ext cx="18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51360" y="3602160"/>
              <a:ext cx="18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51680" y="3602160"/>
              <a:ext cx="14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54880" y="3594240"/>
              <a:ext cx="144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14640" y="480060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784240" y="4429080"/>
              <a:ext cx="20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908080" y="4584600"/>
              <a:ext cx="32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56040" y="4740120"/>
              <a:ext cx="444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48120" y="41274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72200" y="412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492680" y="4127400"/>
              <a:ext cx="3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2360520" y="2781360"/>
            <a:ext cx="4641840" cy="1206360"/>
            <a:chOff x="2360520" y="2781360"/>
            <a:chExt cx="4641840" cy="1206360"/>
          </a:xfrm>
        </p:grpSpPr>
        <p:sp>
          <p:nvSpPr>
            <p:cNvPr id="728" name=""/>
            <p:cNvSpPr/>
            <p:nvPr/>
          </p:nvSpPr>
          <p:spPr>
            <a:xfrm>
              <a:off x="2360520" y="2781360"/>
              <a:ext cx="4641840" cy="1206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2400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0476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8588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67000" y="30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60600" y="30384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52560" y="35100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8604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6716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04828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45120" y="3513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797440" y="3267000"/>
              <a:ext cx="611280" cy="98640"/>
              <a:chOff x="5797440" y="3267000"/>
              <a:chExt cx="611280" cy="98640"/>
            </a:xfrm>
          </p:grpSpPr>
          <p:sp>
            <p:nvSpPr>
              <p:cNvPr id="740" name=""/>
              <p:cNvSpPr/>
              <p:nvPr/>
            </p:nvSpPr>
            <p:spPr>
              <a:xfrm>
                <a:off x="5797440" y="3316320"/>
                <a:ext cx="51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310440" y="326700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124" h="124">
                    <a:moveTo>
                      <a:pt x="0" y="124"/>
                    </a:moveTo>
                    <a:lnTo>
                      <a:pt x="124" y="63"/>
                    </a:lnTo>
                    <a:lnTo>
                      <a:pt x="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33720" y="3259080"/>
              <a:ext cx="144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14840" y="327348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95960" y="327348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86440" y="327348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97680" y="3263760"/>
              <a:ext cx="144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30480" y="3316320"/>
              <a:ext cx="2263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86400" y="3195720"/>
              <a:ext cx="282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17720" y="32115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2143080" y="4330800"/>
            <a:ext cx="4767480" cy="942840"/>
            <a:chOff x="2143080" y="4330800"/>
            <a:chExt cx="4767480" cy="942840"/>
          </a:xfrm>
        </p:grpSpPr>
        <p:sp>
          <p:nvSpPr>
            <p:cNvPr id="751" name=""/>
            <p:cNvSpPr/>
            <p:nvPr/>
          </p:nvSpPr>
          <p:spPr>
            <a:xfrm>
              <a:off x="2143080" y="4330800"/>
              <a:ext cx="4767480" cy="942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5564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23640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1752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0080" y="4491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36800" y="449100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35200" y="44910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84560" y="49608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Flo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23064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1320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9396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59116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232320" y="49658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65360" y="471168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46480" y="47228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27600" y="47228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18080" y="47228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30760" y="4719600"/>
              <a:ext cx="1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65360" y="476568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19840" y="4648320"/>
              <a:ext cx="280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49360" y="466416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72280" y="471960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33920" y="4765680"/>
              <a:ext cx="103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2281320" y="2303640"/>
            <a:ext cx="4576680" cy="3416040"/>
            <a:chOff x="2281320" y="2303640"/>
            <a:chExt cx="4576680" cy="3416040"/>
          </a:xfrm>
        </p:grpSpPr>
        <p:sp>
          <p:nvSpPr>
            <p:cNvPr id="775" name=""/>
            <p:cNvSpPr/>
            <p:nvPr/>
          </p:nvSpPr>
          <p:spPr>
            <a:xfrm>
              <a:off x="2281320" y="2303640"/>
              <a:ext cx="4576680" cy="341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75120" y="2558880"/>
              <a:ext cx="3419280" cy="2571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5120" y="4491000"/>
              <a:ext cx="100080" cy="3711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4680" y="2879640"/>
              <a:ext cx="99720" cy="16110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41640" y="513072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41640" y="481176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041640" y="449100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41640" y="417204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41640" y="385128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041640" y="35193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1640" y="31986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41640" y="2879640"/>
              <a:ext cx="3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41640" y="25588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75120" y="4491000"/>
              <a:ext cx="341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07512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38472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9252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01184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32108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4629240" y="4490640"/>
              <a:ext cx="32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94028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24844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55804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7700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6186600" y="44906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494400" y="44906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37720" y="50418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7720" y="47210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81080" y="4402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83800" y="4081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83800" y="3762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83800" y="3429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83800" y="3109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16840" y="27892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16840" y="24699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9680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0496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1456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3352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4168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75128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6052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7012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8944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9040" y="4606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73360" y="460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1916640" y="3741840"/>
              <a:ext cx="119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, thousa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35440" y="5400720"/>
              <a:ext cx="77760" cy="885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47400" y="534816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42040" y="5400720"/>
              <a:ext cx="79200" cy="88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52200" y="53481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16600" y="5400720"/>
              <a:ext cx="77760" cy="88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27480" y="534816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81320" y="2303640"/>
              <a:ext cx="4576680" cy="3416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"/>
          <p:cNvGrpSpPr/>
          <p:nvPr/>
        </p:nvGrpSpPr>
        <p:grpSpPr>
          <a:xfrm>
            <a:off x="2909880" y="2254320"/>
            <a:ext cx="4449600" cy="3378240"/>
            <a:chOff x="2909880" y="2254320"/>
            <a:chExt cx="4449600" cy="3378240"/>
          </a:xfrm>
        </p:grpSpPr>
        <p:sp>
          <p:nvSpPr>
            <p:cNvPr id="830" name=""/>
            <p:cNvSpPr/>
            <p:nvPr/>
          </p:nvSpPr>
          <p:spPr>
            <a:xfrm>
              <a:off x="2909880" y="2254320"/>
              <a:ext cx="4449600" cy="337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86040" y="2506680"/>
              <a:ext cx="3320640" cy="2530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86040" y="4191120"/>
              <a:ext cx="94680" cy="6825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90680" y="4127760"/>
              <a:ext cx="950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89120" y="4127760"/>
              <a:ext cx="1058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86120" y="4127760"/>
              <a:ext cx="1076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95720" y="4127760"/>
              <a:ext cx="946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94160" y="4127760"/>
              <a:ext cx="1058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01960" y="4127760"/>
              <a:ext cx="964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00400" y="4127760"/>
              <a:ext cx="10620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98840" y="4127760"/>
              <a:ext cx="10620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7000" y="4127760"/>
              <a:ext cx="964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05440" y="4127760"/>
              <a:ext cx="10584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11640" y="2786040"/>
              <a:ext cx="95040" cy="140508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54000" y="50371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54000" y="4759560"/>
              <a:ext cx="31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4000" y="4480200"/>
              <a:ext cx="31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4000" y="41911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4000" y="39117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54000" y="36338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54000" y="33559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54000" y="30639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54000" y="27860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4000" y="25066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86040" y="4191120"/>
              <a:ext cx="3320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68604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98448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429228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459072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488916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19732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49576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5805000" y="4190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02000" y="4190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400440" y="4190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71004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007040" y="4190760"/>
              <a:ext cx="10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54760" y="4950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54760" y="4672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54760" y="4392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88400" y="410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95800" y="3822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95800" y="3544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95800" y="32673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95800" y="2975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32440" y="26971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32440" y="2417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268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048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0892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0736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1552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31396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61240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2020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1864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17080" y="43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93560" y="4303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6200000">
              <a:off x="2543400" y="3788280"/>
              <a:ext cx="119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, thousa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89040" y="5326200"/>
              <a:ext cx="72720" cy="88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96320" y="527364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39920" y="5326200"/>
              <a:ext cx="74160" cy="88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45760" y="527364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70280" y="5326200"/>
              <a:ext cx="74160" cy="889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76120" y="527364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149480" y="1758960"/>
            <a:ext cx="4546440" cy="1579680"/>
            <a:chOff x="1149480" y="1758960"/>
            <a:chExt cx="4546440" cy="1579680"/>
          </a:xfrm>
        </p:grpSpPr>
        <p:sp>
          <p:nvSpPr>
            <p:cNvPr id="74" name=""/>
            <p:cNvSpPr/>
            <p:nvPr/>
          </p:nvSpPr>
          <p:spPr>
            <a:xfrm>
              <a:off x="1149480" y="1758960"/>
              <a:ext cx="4546440" cy="15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4320" y="191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6360" y="191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03200" y="1919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59800" y="2394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90000" y="2394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91760" y="2394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06400" y="2666880"/>
              <a:ext cx="263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tion of future value of deposit at year 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59800" y="2865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52160" y="2865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$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454040" y="2147760"/>
              <a:ext cx="3675240" cy="98640"/>
              <a:chOff x="1454040" y="2147760"/>
              <a:chExt cx="3675240" cy="98640"/>
            </a:xfrm>
          </p:grpSpPr>
          <p:sp>
            <p:nvSpPr>
              <p:cNvPr id="85" name=""/>
              <p:cNvSpPr/>
              <p:nvPr/>
            </p:nvSpPr>
            <p:spPr>
              <a:xfrm>
                <a:off x="1454040" y="2195640"/>
                <a:ext cx="3578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29200" y="214776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127" h="125">
                    <a:moveTo>
                      <a:pt x="0" y="125"/>
                    </a:moveTo>
                    <a:lnTo>
                      <a:pt x="127" y="64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454040" y="213984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6440" y="2112840"/>
              <a:ext cx="1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8200" y="2112840"/>
              <a:ext cx="1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973160" y="2886120"/>
              <a:ext cx="1784520" cy="98280"/>
              <a:chOff x="1973160" y="2886120"/>
              <a:chExt cx="1784520" cy="98280"/>
            </a:xfrm>
          </p:grpSpPr>
          <p:sp>
            <p:nvSpPr>
              <p:cNvPr id="91" name=""/>
              <p:cNvSpPr/>
              <p:nvPr/>
            </p:nvSpPr>
            <p:spPr>
              <a:xfrm>
                <a:off x="1973160" y="2935440"/>
                <a:ext cx="1687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88612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0" y="125"/>
                    </a:moveTo>
                    <a:lnTo>
                      <a:pt x="126" y="62"/>
                    </a:lnTo>
                    <a:lnTo>
                      <a:pt x="0" y="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1320" y="1536840"/>
            <a:ext cx="4576680" cy="3433680"/>
            <a:chOff x="2281320" y="1536840"/>
            <a:chExt cx="4576680" cy="3433680"/>
          </a:xfrm>
        </p:grpSpPr>
        <p:sp>
          <p:nvSpPr>
            <p:cNvPr id="94" name=""/>
            <p:cNvSpPr/>
            <p:nvPr/>
          </p:nvSpPr>
          <p:spPr>
            <a:xfrm>
              <a:off x="2281320" y="1536840"/>
              <a:ext cx="4576680" cy="343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11400" y="1757520"/>
              <a:ext cx="3567240" cy="235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0824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62480" y="3529080"/>
              <a:ext cx="1569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32400" y="3529080"/>
              <a:ext cx="1587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9240" y="3529080"/>
              <a:ext cx="14580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1680" y="3529080"/>
              <a:ext cx="14580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04120" y="3529080"/>
              <a:ext cx="14580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58000" y="3529080"/>
              <a:ext cx="1569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3040" y="3529080"/>
              <a:ext cx="146160" cy="582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08240" y="3417840"/>
              <a:ext cx="146160" cy="111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2480" y="3308400"/>
              <a:ext cx="156960" cy="220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27520" y="3210120"/>
              <a:ext cx="146160" cy="31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9960" y="3098880"/>
              <a:ext cx="146160" cy="430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32400" y="2989440"/>
              <a:ext cx="158760" cy="53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99240" y="2890800"/>
              <a:ext cx="145800" cy="638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1680" y="2779920"/>
              <a:ext cx="145800" cy="749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04120" y="2670120"/>
              <a:ext cx="145800" cy="85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58000" y="2571840"/>
              <a:ext cx="156960" cy="957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3040" y="2460600"/>
              <a:ext cx="146160" cy="1068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62480" y="3297240"/>
              <a:ext cx="156960" cy="11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27520" y="3176640"/>
              <a:ext cx="146160" cy="3348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79960" y="3033720"/>
              <a:ext cx="146160" cy="651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32400" y="2890800"/>
              <a:ext cx="158760" cy="9864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99240" y="2725920"/>
              <a:ext cx="145800" cy="16488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51680" y="2549520"/>
              <a:ext cx="145800" cy="2304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04120" y="2351160"/>
              <a:ext cx="145800" cy="3189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8000" y="2141640"/>
              <a:ext cx="156960" cy="4302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3040" y="1911240"/>
              <a:ext cx="146160" cy="5493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5040" y="41115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5040" y="35290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5040" y="293364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5040" y="23511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5040" y="17575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11400" y="41112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63840" y="4111200"/>
              <a:ext cx="32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729240" y="4111200"/>
              <a:ext cx="28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8312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3556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800600" y="41112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15484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507280" y="411120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59720" y="4111200"/>
              <a:ext cx="28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224760" y="4111200"/>
              <a:ext cx="32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78640" y="411120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8400" y="4035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4960" y="3451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94960" y="2857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4960" y="2273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94960" y="1679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720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964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6352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892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8136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524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8768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272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5160" y="4211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2680" y="421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4442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2283840" y="285516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59240" y="4673520"/>
              <a:ext cx="4235400" cy="24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8200" y="4749840"/>
              <a:ext cx="84240" cy="777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29880" y="47070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6720" y="4749840"/>
              <a:ext cx="85680" cy="77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98400" y="4707000"/>
              <a:ext cx="132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at interest 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22920" y="4749840"/>
              <a:ext cx="85680" cy="77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4600" y="4707000"/>
              <a:ext cx="172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pound interest 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432160" y="1595520"/>
            <a:ext cx="4576680" cy="3433680"/>
            <a:chOff x="2432160" y="1595520"/>
            <a:chExt cx="4576680" cy="3433680"/>
          </a:xfrm>
        </p:grpSpPr>
        <p:sp>
          <p:nvSpPr>
            <p:cNvPr id="166" name=""/>
            <p:cNvSpPr/>
            <p:nvPr/>
          </p:nvSpPr>
          <p:spPr>
            <a:xfrm>
              <a:off x="2432160" y="1595520"/>
              <a:ext cx="4576680" cy="3433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32160" y="1595520"/>
              <a:ext cx="4576680" cy="343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2560" y="1790640"/>
              <a:ext cx="3532320" cy="2365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2560" y="1790640"/>
              <a:ext cx="3532320" cy="2365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54400" y="41562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54400" y="38973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3627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54400" y="33685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54400" y="31082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54400" y="28386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54400" y="2579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54400" y="2319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4400" y="20494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4400" y="179064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29256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61332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93228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26096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57992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9924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1820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53896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5792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18660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05560" y="415584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824880" y="415584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613320" y="4035240"/>
              <a:ext cx="3189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932280" y="3914640"/>
              <a:ext cx="32868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260960" y="3793680"/>
              <a:ext cx="3189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579920" y="3692520"/>
              <a:ext cx="3193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899240" y="3591000"/>
              <a:ext cx="3189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218200" y="3489480"/>
              <a:ext cx="3207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538960" y="3395160"/>
              <a:ext cx="318960" cy="9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57920" y="3303360"/>
              <a:ext cx="328680" cy="9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186600" y="3219480"/>
              <a:ext cx="3189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13320" y="3914280"/>
              <a:ext cx="3189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932280" y="3701520"/>
              <a:ext cx="3286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260960" y="3506760"/>
              <a:ext cx="31896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579920" y="3321000"/>
              <a:ext cx="31932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899240" y="3164040"/>
              <a:ext cx="31896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218200" y="3014280"/>
              <a:ext cx="32076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538960" y="2876400"/>
              <a:ext cx="3189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857920" y="2755440"/>
              <a:ext cx="3286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186600" y="2644920"/>
              <a:ext cx="3189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613320" y="3812760"/>
              <a:ext cx="31896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932280" y="3516480"/>
              <a:ext cx="32868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60960" y="3255840"/>
              <a:ext cx="318960" cy="26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79920" y="3033360"/>
              <a:ext cx="31932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899240" y="2838600"/>
              <a:ext cx="31896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218200" y="2662200"/>
              <a:ext cx="32076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538960" y="2514600"/>
              <a:ext cx="3189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857920" y="2384280"/>
              <a:ext cx="32868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86600" y="2273400"/>
              <a:ext cx="3189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613320" y="3720600"/>
              <a:ext cx="318960" cy="43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932280" y="3349440"/>
              <a:ext cx="32868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260960" y="3052440"/>
              <a:ext cx="31896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579920" y="2792160"/>
              <a:ext cx="31932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899240" y="2588760"/>
              <a:ext cx="31896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218200" y="2411280"/>
              <a:ext cx="3207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538960" y="2263680"/>
              <a:ext cx="3189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57920" y="2142720"/>
              <a:ext cx="3286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186600" y="2041560"/>
              <a:ext cx="3189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64000" y="41101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82960" y="39895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13440" y="3868560"/>
              <a:ext cx="950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2400" y="3747960"/>
              <a:ext cx="968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1360" y="364644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70680" y="354492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9640" y="344160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08600" y="3349800"/>
              <a:ext cx="96840" cy="918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37280" y="3255840"/>
              <a:ext cx="968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58040" y="317340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30"/>
                  </a:lnTo>
                  <a:lnTo>
                    <a:pt x="30" y="60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4000" y="4110120"/>
              <a:ext cx="96840" cy="93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2960" y="3868560"/>
              <a:ext cx="96840" cy="939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440" y="3656160"/>
              <a:ext cx="95040" cy="9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32400" y="3460680"/>
              <a:ext cx="96840" cy="92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51360" y="3274920"/>
              <a:ext cx="96840" cy="93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0680" y="3117960"/>
              <a:ext cx="96840" cy="9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9640" y="2968560"/>
              <a:ext cx="96840" cy="93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08600" y="2830680"/>
              <a:ext cx="96840" cy="9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37280" y="2709720"/>
              <a:ext cx="96840" cy="92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58040" y="2597040"/>
              <a:ext cx="96840" cy="93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64000" y="41101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82960" y="376704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13440" y="3470400"/>
              <a:ext cx="95040" cy="918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32400" y="3209760"/>
              <a:ext cx="96840" cy="939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1360" y="298764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70680" y="27925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9640" y="2616120"/>
              <a:ext cx="96840" cy="936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08600" y="246852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37280" y="2338560"/>
              <a:ext cx="96840" cy="918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58040" y="2227320"/>
              <a:ext cx="96840" cy="9216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60" y="60"/>
                  </a:lnTo>
                  <a:lnTo>
                    <a:pt x="0" y="6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4000" y="411012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2960" y="367344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3440" y="3303720"/>
              <a:ext cx="95040" cy="918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32400" y="300672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51360" y="274644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70680" y="254160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9640" y="2365200"/>
              <a:ext cx="96840" cy="93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08600" y="221760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37280" y="2097000"/>
              <a:ext cx="96840" cy="921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58040" y="1994040"/>
              <a:ext cx="96840" cy="93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2840" y="40831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44080" y="382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44080" y="355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44080" y="3294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44080" y="3033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44080" y="2765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44080" y="2505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44080" y="2244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44080" y="1976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44080" y="1716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6412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308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0240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3216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148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7080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8976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0872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2804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57800" y="4259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37160" y="4259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58280" y="4259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95120" y="447192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1822680" y="2837880"/>
              <a:ext cx="163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tion of compou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2100960" y="2861280"/>
              <a:ext cx="140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est to total 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92680" y="4797360"/>
              <a:ext cx="271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89520" y="4761000"/>
              <a:ext cx="77760" cy="74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2200" y="47149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35560" y="4797360"/>
              <a:ext cx="270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32400" y="4761000"/>
              <a:ext cx="7632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35080" y="4714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45040" y="4797360"/>
              <a:ext cx="270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1880" y="476100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44560" y="4714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4880" y="4797360"/>
              <a:ext cx="269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51720" y="4761000"/>
              <a:ext cx="7596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54040" y="4714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102280" y="5738760"/>
            <a:ext cx="19980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1320" y="2120760"/>
            <a:ext cx="4576680" cy="3433680"/>
            <a:chOff x="2281320" y="2120760"/>
            <a:chExt cx="4576680" cy="3433680"/>
          </a:xfrm>
        </p:grpSpPr>
        <p:sp>
          <p:nvSpPr>
            <p:cNvPr id="307" name=""/>
            <p:cNvSpPr/>
            <p:nvPr/>
          </p:nvSpPr>
          <p:spPr>
            <a:xfrm>
              <a:off x="2281320" y="2120760"/>
              <a:ext cx="4576680" cy="343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84680" y="2412720"/>
              <a:ext cx="3402000" cy="2476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84680" y="2412720"/>
              <a:ext cx="3402000" cy="247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53000" y="48891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3000" y="4646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53000" y="43938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3000" y="41511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53000" y="38988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53000" y="36558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53000" y="34034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53000" y="31604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53000" y="29080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3000" y="26650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53000" y="24127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884680" y="4888800"/>
              <a:ext cx="32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22416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56400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90204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24188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59108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929120" y="4888800"/>
              <a:ext cx="32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268960" y="4888800"/>
              <a:ext cx="180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60880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946840" y="4888800"/>
              <a:ext cx="14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967360" y="4888800"/>
              <a:ext cx="324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4680" y="4646520"/>
              <a:ext cx="339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2416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64000" y="464652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0204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41880" y="4646520"/>
              <a:ext cx="34920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0" y="0"/>
                  </a:moveTo>
                  <a:lnTo>
                    <a:pt x="96" y="0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1080" y="464652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912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6896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08800" y="464652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6840" y="464652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884680" y="4635000"/>
              <a:ext cx="3394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224160" y="462384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564000" y="4612680"/>
              <a:ext cx="3380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02040" y="4613040"/>
              <a:ext cx="33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41880" y="4601880"/>
              <a:ext cx="349200" cy="1116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0" y="6"/>
                  </a:moveTo>
                  <a:lnTo>
                    <a:pt x="96" y="6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4591080" y="4590360"/>
              <a:ext cx="3380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929120" y="457920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268960" y="4570200"/>
              <a:ext cx="33984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8800" y="4570200"/>
              <a:ext cx="338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946840" y="455868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884680" y="4624200"/>
              <a:ext cx="3394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24160" y="461268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564000" y="459072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902040" y="4579200"/>
              <a:ext cx="339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41880" y="4559040"/>
              <a:ext cx="349200" cy="20520"/>
            </a:xfrm>
            <a:custGeom>
              <a:avLst/>
              <a:gdLst/>
              <a:ahLst/>
              <a:rect l="l" t="t" r="r" b="b"/>
              <a:pathLst>
                <a:path w="198" h="12">
                  <a:moveTo>
                    <a:pt x="0" y="12"/>
                  </a:moveTo>
                  <a:lnTo>
                    <a:pt x="96" y="6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591080" y="453672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4929120" y="4514400"/>
              <a:ext cx="3398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5268960" y="4492440"/>
              <a:ext cx="339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608800" y="4470120"/>
              <a:ext cx="3380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46840" y="4447800"/>
              <a:ext cx="339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884680" y="4612680"/>
              <a:ext cx="3394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224160" y="4590720"/>
              <a:ext cx="3398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64000" y="4569840"/>
              <a:ext cx="3380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902040" y="4536360"/>
              <a:ext cx="3398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41880" y="4503600"/>
              <a:ext cx="349200" cy="3312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18"/>
                  </a:moveTo>
                  <a:lnTo>
                    <a:pt x="96" y="6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591080" y="4469760"/>
              <a:ext cx="3380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929120" y="4437000"/>
              <a:ext cx="3398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268960" y="4393800"/>
              <a:ext cx="33984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608800" y="4349160"/>
              <a:ext cx="338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946840" y="4304880"/>
              <a:ext cx="3398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84680" y="4601880"/>
              <a:ext cx="33948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224160" y="4558680"/>
              <a:ext cx="3398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64000" y="4514400"/>
              <a:ext cx="3380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902040" y="4458600"/>
              <a:ext cx="3398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41880" y="4393800"/>
              <a:ext cx="349200" cy="65160"/>
            </a:xfrm>
            <a:custGeom>
              <a:avLst/>
              <a:gdLst/>
              <a:ahLst/>
              <a:rect l="l" t="t" r="r" b="b"/>
              <a:pathLst>
                <a:path w="198" h="36">
                  <a:moveTo>
                    <a:pt x="0" y="36"/>
                  </a:moveTo>
                  <a:lnTo>
                    <a:pt x="96" y="18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591080" y="4316040"/>
              <a:ext cx="33804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929120" y="4228920"/>
              <a:ext cx="3398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268960" y="4128840"/>
              <a:ext cx="3398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608800" y="4019400"/>
              <a:ext cx="338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6840" y="3887640"/>
              <a:ext cx="339840" cy="131760"/>
            </a:xfrm>
            <a:custGeom>
              <a:avLst/>
              <a:gdLst/>
              <a:ahLst/>
              <a:rect l="l" t="t" r="r" b="b"/>
              <a:pathLst>
                <a:path w="192" h="72">
                  <a:moveTo>
                    <a:pt x="0" y="72"/>
                  </a:moveTo>
                  <a:lnTo>
                    <a:pt x="96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884680" y="4579560"/>
              <a:ext cx="33948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3224160" y="4503240"/>
              <a:ext cx="3398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564000" y="4404960"/>
              <a:ext cx="33804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02040" y="4282920"/>
              <a:ext cx="339840" cy="12204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0" y="66"/>
                  </a:moveTo>
                  <a:lnTo>
                    <a:pt x="96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4128840"/>
              <a:ext cx="349200" cy="154080"/>
            </a:xfrm>
            <a:custGeom>
              <a:avLst/>
              <a:gdLst/>
              <a:ahLst/>
              <a:rect l="l" t="t" r="r" b="b"/>
              <a:pathLst>
                <a:path w="198" h="84">
                  <a:moveTo>
                    <a:pt x="0" y="84"/>
                  </a:moveTo>
                  <a:lnTo>
                    <a:pt x="96" y="42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91080" y="3941640"/>
              <a:ext cx="338040" cy="187200"/>
            </a:xfrm>
            <a:custGeom>
              <a:avLst/>
              <a:gdLst/>
              <a:ahLst/>
              <a:rect l="l" t="t" r="r" b="b"/>
              <a:pathLst>
                <a:path w="192" h="102">
                  <a:moveTo>
                    <a:pt x="0" y="102"/>
                  </a:moveTo>
                  <a:lnTo>
                    <a:pt x="96" y="5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29120" y="3711240"/>
              <a:ext cx="339840" cy="230400"/>
            </a:xfrm>
            <a:custGeom>
              <a:avLst/>
              <a:gdLst/>
              <a:ahLst/>
              <a:rect l="l" t="t" r="r" b="b"/>
              <a:pathLst>
                <a:path w="192" h="126">
                  <a:moveTo>
                    <a:pt x="0" y="126"/>
                  </a:moveTo>
                  <a:lnTo>
                    <a:pt x="96" y="6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68960" y="3414600"/>
              <a:ext cx="339840" cy="296640"/>
            </a:xfrm>
            <a:custGeom>
              <a:avLst/>
              <a:gdLst/>
              <a:ahLst/>
              <a:rect l="l" t="t" r="r" b="b"/>
              <a:pathLst>
                <a:path w="192" h="162">
                  <a:moveTo>
                    <a:pt x="0" y="162"/>
                  </a:moveTo>
                  <a:lnTo>
                    <a:pt x="96" y="8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08800" y="3039840"/>
              <a:ext cx="338040" cy="37476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0" y="204"/>
                  </a:moveTo>
                  <a:lnTo>
                    <a:pt x="96" y="108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6840" y="2577960"/>
              <a:ext cx="339840" cy="461880"/>
            </a:xfrm>
            <a:custGeom>
              <a:avLst/>
              <a:gdLst/>
              <a:ahLst/>
              <a:rect l="l" t="t" r="r" b="b"/>
              <a:pathLst>
                <a:path w="192" h="252">
                  <a:moveTo>
                    <a:pt x="0" y="252"/>
                  </a:moveTo>
                  <a:lnTo>
                    <a:pt x="48" y="192"/>
                  </a:lnTo>
                  <a:lnTo>
                    <a:pt x="96" y="132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6720" y="4811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36720" y="457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36720" y="4316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6720" y="4074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6720" y="3821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6720" y="357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36720" y="332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36720" y="308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36720" y="283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258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73000" y="233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5264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212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3016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000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984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5904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9708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3692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7496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14800" y="4987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22600" y="498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09640" y="521964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1994760" y="3556800"/>
              <a:ext cx="108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uture value of $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70600" y="4321080"/>
              <a:ext cx="2430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08760" y="4262040"/>
              <a:ext cx="16524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08760" y="4411440"/>
              <a:ext cx="165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0200" y="4587480"/>
              <a:ext cx="16380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61240" y="3882960"/>
              <a:ext cx="24264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78520" y="3920760"/>
              <a:ext cx="22860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70600" y="2673000"/>
              <a:ext cx="24300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78520" y="2835000"/>
              <a:ext cx="228600" cy="1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409760" y="1168560"/>
            <a:ext cx="3695760" cy="2590560"/>
            <a:chOff x="1409760" y="1168560"/>
            <a:chExt cx="3695760" cy="2590560"/>
          </a:xfrm>
        </p:grpSpPr>
        <p:sp>
          <p:nvSpPr>
            <p:cNvPr id="425" name=""/>
            <p:cNvSpPr/>
            <p:nvPr/>
          </p:nvSpPr>
          <p:spPr>
            <a:xfrm>
              <a:off x="1409760" y="1168560"/>
              <a:ext cx="3695760" cy="2590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4200" y="1566720"/>
              <a:ext cx="280800" cy="1420920"/>
            </a:xfrm>
            <a:prstGeom prst="rect">
              <a:avLst/>
            </a:prstGeom>
            <a:solidFill>
              <a:srgbClr val="00cc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40200" y="2163600"/>
              <a:ext cx="280800" cy="824040"/>
            </a:xfrm>
            <a:prstGeom prst="rect">
              <a:avLst/>
            </a:prstGeom>
            <a:solidFill>
              <a:srgbClr val="ff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9280" y="1566720"/>
              <a:ext cx="280800" cy="600120"/>
            </a:xfrm>
            <a:prstGeom prst="rect">
              <a:avLst/>
            </a:prstGeom>
            <a:solidFill>
              <a:srgbClr val="3333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79040" y="20080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95760" y="200808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74720" y="3262320"/>
              <a:ext cx="76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l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52280" y="326232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l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12840" y="32623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24200" y="1566720"/>
              <a:ext cx="280800" cy="1420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40200" y="2163600"/>
              <a:ext cx="280800" cy="8240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29280" y="1566720"/>
              <a:ext cx="280800" cy="600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1919160" y="1744560"/>
            <a:ext cx="4316400" cy="1798920"/>
            <a:chOff x="1919160" y="1744560"/>
            <a:chExt cx="4316400" cy="1798920"/>
          </a:xfrm>
        </p:grpSpPr>
        <p:sp>
          <p:nvSpPr>
            <p:cNvPr id="438" name=""/>
            <p:cNvSpPr/>
            <p:nvPr/>
          </p:nvSpPr>
          <p:spPr>
            <a:xfrm>
              <a:off x="1919160" y="1744560"/>
              <a:ext cx="4316400" cy="17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35240" y="2660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0844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1316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1968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27640" y="2508120"/>
              <a:ext cx="228600" cy="152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33800" y="25052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49960" y="28130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42120" y="2505240"/>
              <a:ext cx="228600" cy="152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57440" y="260352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540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9260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732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0384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0856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15080" y="27986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2184480"/>
              <a:ext cx="10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y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1973160" y="2486160"/>
            <a:ext cx="5197680" cy="1893600"/>
            <a:chOff x="1973160" y="2486160"/>
            <a:chExt cx="5197680" cy="1893600"/>
          </a:xfrm>
        </p:grpSpPr>
        <p:sp>
          <p:nvSpPr>
            <p:cNvPr id="456" name=""/>
            <p:cNvSpPr/>
            <p:nvPr/>
          </p:nvSpPr>
          <p:spPr>
            <a:xfrm>
              <a:off x="1973160" y="2486160"/>
              <a:ext cx="5197680" cy="1893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760" y="3121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5880" y="3121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76200" y="3121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7960" y="3121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1120" y="3365640"/>
              <a:ext cx="278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lculation of future value of annuity at year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75880" y="3592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77960" y="3592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6200" y="3749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77960" y="3749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7960" y="39067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77960" y="40622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3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05520" y="4062240"/>
              <a:ext cx="514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76640" y="3664080"/>
              <a:ext cx="19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83360" y="3822840"/>
              <a:ext cx="72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80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604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6216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392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7012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7188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8156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7980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0976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973160" y="2486160"/>
            <a:ext cx="5197680" cy="1893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37760" y="3121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7588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7620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7960" y="312120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1120" y="3365640"/>
            <a:ext cx="278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culation of future value of annuity at yea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7588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77960" y="35924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620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177960" y="374976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7960" y="39067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7960" y="406224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3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05520" y="4062240"/>
            <a:ext cx="514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76640" y="3664080"/>
            <a:ext cx="192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83360" y="3822840"/>
            <a:ext cx="72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179800" y="2654280"/>
            <a:ext cx="4308480" cy="317520"/>
            <a:chOff x="2179800" y="2654280"/>
            <a:chExt cx="4308480" cy="317520"/>
          </a:xfrm>
        </p:grpSpPr>
        <p:sp>
          <p:nvSpPr>
            <p:cNvPr id="496" name=""/>
            <p:cNvSpPr/>
            <p:nvPr/>
          </p:nvSpPr>
          <p:spPr>
            <a:xfrm>
              <a:off x="22680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40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86216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63920" y="265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7012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188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1560" y="287640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79800" y="2917800"/>
              <a:ext cx="43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09760" y="2865600"/>
              <a:ext cx="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01:56Z</dcterms:created>
  <dc:creator>Frank</dc:creator>
  <dc:description/>
  <dc:language>en-US</dc:language>
  <cp:lastModifiedBy>frank crundwell</cp:lastModifiedBy>
  <dcterms:modified xsi:type="dcterms:W3CDTF">2007-08-16T16:42:56Z</dcterms:modified>
  <cp:revision>11</cp:revision>
  <dc:subject/>
  <dc:title>PowerPoint Presentation</dc:title>
</cp:coreProperties>
</file>